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7F6A-837A-4215-ABFC-C21136AE0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4E92-EBAB-4B34-A7D1-56DB1FA65F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1C02-F2C9-4121-BD51-3ED8146F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3A6-44D6-4429-A1E0-EED90760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52D-2A80-4444-B904-E86B7196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D6C-B41F-4DFA-B491-3BE654B4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3DA9-85C9-4E29-813C-3DACCFC4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90E6-213A-4115-9F1B-0E4BEB89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F531-768B-4C83-AB73-BE9BA64F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194D-3CF9-457B-88C1-0726F736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A9D2-663F-49B1-B50C-2E5FD123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7543-90F6-4690-B360-F57C2408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828B-D140-4013-A876-BB3DAC73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865A-CB7F-4790-8042-0ECD5C0F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740A-7692-4DAF-B01E-B7870C3C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046B-6DB9-4508-9958-73290CE9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26C4-CCC8-4377-9251-1EBD1ABF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33BE-FF10-4CAC-8C6A-69A24FCF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151B-B7AD-4807-8FBC-AB8DA8D9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C02FB-FD5A-431A-B587-FDC9985C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63671-CA76-427F-8FE4-B4C66C23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3323D-7999-46E5-A598-E2DDB1C7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3A407-F713-4659-963E-937B8831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1E231-9096-4D57-9C08-EECACAA6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E4A-EBBA-4CA0-B4B2-3581677D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C1849-2A8B-4A48-833B-E7615CAD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21443-B120-4691-B81D-F018F8E6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7200C-8C99-4D28-A894-99A78FD8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7B852-4BD7-4089-BC44-C422A982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730DC-2A94-4D89-B49A-190694C6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F4EE7-5AA1-46F3-B84F-89A91FE7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00DDC-E991-445A-9BAA-8E477B9A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69ED6-7179-41B9-B08F-CE382332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5AD3E-B4B5-45F1-9781-59BF3A6C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BB53D-3259-4E46-BB8F-6AC93AD6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694-1F1A-4546-9117-9FA3D80C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C81E0-AE2E-4F28-9599-7C535C6A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19F2C-0F88-4DD6-8870-75DB0322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0BC3D-02CE-4016-A741-6FFE617F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F5D4F-8AD8-4746-9DEE-F094A7D0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243B8-7FA1-4BE9-B451-7EC0C447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B96E1-4DA3-4D21-A929-D9BB88AE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12A08-752E-461D-BF20-5E875F29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AA03D-EDAD-47D9-B687-CBAA1DF1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A1B55-302C-4711-A14C-E4E522E3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95DD1-F62C-4DF1-8D35-723AA653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C30A-77C7-474A-8E9A-A4120080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EBEB2-D1AD-45A9-8AAE-3AE61EEA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3182E-2563-42EA-9A72-713275CC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C3D4A-ADC3-4010-BC41-529B9942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699F1-73AF-45EE-B8EC-BF4C4B60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71E37-8563-463C-986B-E0B227A7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321F7-5244-471B-A6F2-6E41A32A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7E676-3243-4409-989F-A3AD9F65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5B4EC-9FB0-4D58-82D7-E993EEA2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577E5-D880-4751-B075-7C491E84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1991F-1DA6-4524-AE7B-BBC27C2C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C165-2179-4EC8-8A15-BFDC7B98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7D6E0-C3E0-4928-8A09-CA95703C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7986C-C77F-4498-9788-89A25392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955F7-0C1F-4803-82EA-48AAC911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9A7DC-5DFB-4B52-91C6-2C15ED37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1DEA7-68B2-43E0-88DE-7C683553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4F301-F4E2-4CF0-B151-FCE70DD0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983D9-2909-4FED-BC95-6EA72B55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59E5A-5D7F-4544-AF6F-9FEAEAE7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E056A-B8DB-41CA-9E2F-37B6A98B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F2726-5C70-4302-8BDA-B602307E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BB5B-627C-400B-BEDC-D53A1F33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B479F-B176-48C5-8455-E5896C68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9121D-4105-42D2-A5E0-D97ED871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8C19B-1689-400B-ADC9-04060C07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DEB79-5A1E-4B4D-B5C6-7668A7B2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6CB90-8CF3-4989-8878-82693E35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56CD4-5B57-4D8B-9498-9F6DB0D9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6D3AC-5362-4E39-809C-82017458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E1BB3-3C77-4B46-85DF-C970038D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721CE-96C3-4026-A771-4E3CC422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383AE-27B5-4E6B-A48C-6CAD792A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73D-0E91-4247-B498-2FF3F357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99784-8451-477F-943F-39DEF656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29557-BDD6-471B-8951-A54016A1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9CCD3-A8BB-488B-8941-7BDE32F2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D5CE8-ACE8-4CA0-89F1-75474337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B0647-473D-4D5B-B613-31E2ED34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1394-E939-417D-903E-93EAE8FE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B333-D786-4DD2-9B49-21D224CEB0A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52F0-F601-4061-99D7-99495ED30CC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24F7-05E1-4AE9-B62E-052F76ED9A6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290D-0F59-4DFE-B10B-07031617CA9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7CF3-97EB-4C3C-A38A-512B9FA2267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FB4A-5949-4FBA-8F61-CA8B919B5F1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1F00-10FC-4975-B349-0C9A838DF38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1.cvsd.k12.pa.us/course/view.php?id=302" TargetMode="External"/><Relationship Id="rId2" Type="http://schemas.openxmlformats.org/officeDocument/2006/relationships/hyperlink" Target="http://podcasts.cvsd.k12.pa.us/weblog/tom_owsinski/" TargetMode="External"/><Relationship Id="rId3" Type="http://schemas.openxmlformats.org/officeDocument/2006/relationships/hyperlink" Target="https://spreadsheets.google.com/ccc?key=0AszEkmQ4sBKFdFhrbjF2a1UzTXpNZXFpdWt2WTRGNHc&amp;hl=en" TargetMode="External"/><Relationship Id="rId4" Type="http://schemas.openxmlformats.org/officeDocument/2006/relationships/hyperlink" Target="http://www.smartmusic.com/" TargetMode="External"/><Relationship Id="rId5" Type="http://schemas.openxmlformats.org/officeDocument/2006/relationships/hyperlink" Target="file:///../../All%20Users/Desktop/iTunes.lnk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oundzabound.com/" TargetMode="External"/><Relationship Id="rId2" Type="http://schemas.openxmlformats.org/officeDocument/2006/relationships/hyperlink" Target="http://www.partnersinrhyme.com/" TargetMode="External"/><Relationship Id="rId3" Type="http://schemas.openxmlformats.org/officeDocument/2006/relationships/hyperlink" Target="http://www.royaltyfreemusic.com/free.html" TargetMode="External"/><Relationship Id="rId4" Type="http://schemas.openxmlformats.org/officeDocument/2006/relationships/hyperlink" Target="http://www.harryfox.com/index.jsp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elkin.com/IWCatProductPage.process?Product_Id=277661" TargetMode="External"/><Relationship Id="rId2" Type="http://schemas.openxmlformats.org/officeDocument/2006/relationships/hyperlink" Target="http://www.belkin.com/IWCatProductPage.process?Product_Id=277661" TargetMode="External"/><Relationship Id="rId3" Type="http://schemas.openxmlformats.org/officeDocument/2006/relationships/hyperlink" Target="http://www.roland.com/products/en/R-09HR/index.html" TargetMode="External"/><Relationship Id="rId4" Type="http://schemas.openxmlformats.org/officeDocument/2006/relationships/hyperlink" Target="http://www.bluemic.com/consumeraudio/microphones.html" TargetMode="External"/><Relationship Id="rId5" Type="http://schemas.openxmlformats.org/officeDocument/2006/relationships/hyperlink" Target="http://www.zoom.co.jp/english/products/h2/" TargetMode="External"/><Relationship Id="rId6" Type="http://schemas.openxmlformats.org/officeDocument/2006/relationships/hyperlink" Target="http://www.zoom.co.jp/english/products/h2/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udacity.sourceforge.net/" TargetMode="External"/><Relationship Id="rId2" Type="http://schemas.openxmlformats.org/officeDocument/2006/relationships/hyperlink" Target="http://audacity.sourceforge.net/help/faq?s=install&amp;item=lame-mp3" TargetMode="External"/><Relationship Id="rId3" Type="http://schemas.openxmlformats.org/officeDocument/2006/relationships/hyperlink" Target="http://www.digidesign.com/index.cfm?navid=507&amp;langid=1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odcastalley.com/index.php" TargetMode="External"/><Relationship Id="rId2" Type="http://schemas.openxmlformats.org/officeDocument/2006/relationships/hyperlink" Target="http://epnweb.org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186760" cy="2090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om Owsinski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onestoga Valley Middle Schoo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martmusic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actical Consideration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s in the Middle School Band Ro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s in the Elementary School Band Ro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Useful Websit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sbandirector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amstudio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assicalmusiccity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icFirth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ood-Ear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Woodwind Fingering Guid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etronome Onlin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Questions and Answer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m Owsinsk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estoga Valley Middle Scho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m_owsinski@cvsd.k12.pa.u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397-1294 x1619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ackground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bout the CVMS band progra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y do I use technology in the band room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nhance student learn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et them where they liv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fficienc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otivat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ech Tools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Mood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Podcast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Google Doc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Smartmusi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5"/>
              </a:rPr>
              <a:t>Ipod/Itun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martphone App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odcasting Considera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16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at is a Podcast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urpos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eacher or Student designed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engt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teres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opyrigh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Soundzaboun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Partners in Rhym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Royalty Free Music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HarryFox.com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– mechanical righ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reating A Podcast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ave a pl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a scrip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i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ploa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onsolas"/>
              </a:rPr>
              <a:t>Podcast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cord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Ipod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with </a:t>
            </a: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Microphon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martphon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Edirol R-09H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Blue USB microphon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5"/>
              </a:rPr>
              <a:t>Zoom  H2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6"/>
              </a:rPr>
              <a:t>_x000b_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odcast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it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Audacity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with </a:t>
            </a: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Lam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arageban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Pro Tool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odcasts as a Resource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tun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Podcast Alle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Educational Podcast Networ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martmusic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practice tool (Band, Orchestra, Choru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ethod Book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ol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xercis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Band, orchestra and chorus arrangemen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ustom fil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sound edit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 interactive gradeboo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2:14:49Z</dcterms:created>
  <dc:creator>tom_owsinski</dc:creator>
  <dc:description/>
  <dc:language>en-US</dc:language>
  <cp:lastModifiedBy>tom_owsinski</cp:lastModifiedBy>
  <dcterms:modified xsi:type="dcterms:W3CDTF">2009-11-17T04:08:47Z</dcterms:modified>
  <cp:revision>46</cp:revision>
  <dc:subject/>
  <dc:title>Technology from the Middle School Band Room</dc:title>
</cp:coreProperties>
</file>